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5451-5B33-4F4B-AC48-78A7FB200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9F5E-4E70-4173-B518-466B826DC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9DF2-D9A4-43FE-B0B8-8D261EBBC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D0F-7AD4-4371-BE93-438E9338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319-1073-4F6E-A7E8-55C76F81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C31-4DFF-40A1-8A5D-E7099764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3F5-CED6-4556-A48C-98CEAEA5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B09-52D6-4B4D-88BB-CA507F58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166-430C-4B41-8C48-936CEF99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0F5-3C3D-4700-993C-5DD1A24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F8E-0F6F-4055-B2C9-C105DC3D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F9B-D378-404A-B587-DDAF2E80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C88-6650-4870-A36A-ED82F76A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B9A-3745-4E45-9B14-06673D6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44C-3738-4451-8F3D-DB91CD9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6AF7-7A2C-4FE4-B5DD-C0F8168FA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3809880"/>
            <a:ext cx="640080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bceff"/>
                </a:solidFill>
                <a:uFillTx/>
                <a:latin typeface="Arial"/>
              </a:rPr>
              <a:t>Geographical Thin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556080" y="4343400"/>
            <a:ext cx="20318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9000"/>
                </a:solidFill>
                <a:latin typeface="Arial"/>
              </a:rPr>
              <a:t>dr. laff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80" y="0"/>
            <a:ext cx="5848200" cy="378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00800" y="3429000"/>
            <a:ext cx="1646280" cy="14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902120" y="5410080"/>
            <a:ext cx="1384560" cy="88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10" descr=""/>
          <p:cNvPicPr/>
          <p:nvPr/>
        </p:nvPicPr>
        <p:blipFill>
          <a:blip r:embed="rId4"/>
          <a:stretch/>
        </p:blipFill>
        <p:spPr>
          <a:xfrm>
            <a:off x="6037200" y="30240"/>
            <a:ext cx="1979640" cy="148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5"/>
          <a:stretch/>
        </p:blipFill>
        <p:spPr>
          <a:xfrm>
            <a:off x="6299280" y="5410080"/>
            <a:ext cx="1270080" cy="8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3" descr=""/>
          <p:cNvPicPr/>
          <p:nvPr/>
        </p:nvPicPr>
        <p:blipFill>
          <a:blip r:embed="rId6"/>
          <a:srcRect l="0" t="7346" r="0" b="0"/>
          <a:stretch/>
        </p:blipFill>
        <p:spPr>
          <a:xfrm>
            <a:off x="6299280" y="6400800"/>
            <a:ext cx="1270080" cy="87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14" descr=""/>
          <p:cNvPicPr/>
          <p:nvPr/>
        </p:nvPicPr>
        <p:blipFill>
          <a:blip r:embed="rId7"/>
          <a:srcRect l="0" t="0" r="48327" b="3397"/>
          <a:stretch/>
        </p:blipFill>
        <p:spPr>
          <a:xfrm>
            <a:off x="6019920" y="1676520"/>
            <a:ext cx="1981080" cy="150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"/>
          <p:cNvPicPr/>
          <p:nvPr/>
        </p:nvPicPr>
        <p:blipFill>
          <a:blip r:embed="rId8"/>
          <a:srcRect l="0" t="0" r="49379" b="0"/>
          <a:stretch/>
        </p:blipFill>
        <p:spPr>
          <a:xfrm>
            <a:off x="8229600" y="30240"/>
            <a:ext cx="1765440" cy="459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9"/>
          <a:stretch/>
        </p:blipFill>
        <p:spPr>
          <a:xfrm>
            <a:off x="7594560" y="5334120"/>
            <a:ext cx="2565360" cy="1982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4572000" y="7375680"/>
            <a:ext cx="41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images gathered from Google Images.  URLs availa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5156280" y="54403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an Emp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451560" y="66294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il Tr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7594560" y="5410080"/>
            <a:ext cx="76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Internet Ear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1" descr="age of discovery"/>
          <p:cNvPicPr/>
          <p:nvPr/>
        </p:nvPicPr>
        <p:blipFill>
          <a:blip r:embed="rId10"/>
          <a:srcRect l="0" t="0" r="0" b="21549"/>
          <a:stretch/>
        </p:blipFill>
        <p:spPr>
          <a:xfrm>
            <a:off x="4902120" y="6400800"/>
            <a:ext cx="137016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Text Box 22"/>
          <p:cNvSpPr/>
          <p:nvPr/>
        </p:nvSpPr>
        <p:spPr>
          <a:xfrm>
            <a:off x="5130720" y="69343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ge of Dis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451560" y="5440320"/>
            <a:ext cx="838080" cy="215640"/>
          </a:xfrm>
          <a:prstGeom prst="rect">
            <a:avLst/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767676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lave Tr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6" descr=""/>
          <p:cNvPicPr/>
          <p:nvPr/>
        </p:nvPicPr>
        <p:blipFill>
          <a:blip r:embed="rId11"/>
          <a:srcRect l="4370" t="25857" r="53675" b="34039"/>
          <a:stretch/>
        </p:blipFill>
        <p:spPr>
          <a:xfrm>
            <a:off x="8229600" y="1219320"/>
            <a:ext cx="175248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12"/>
          <a:stretch/>
        </p:blipFill>
        <p:spPr>
          <a:xfrm>
            <a:off x="0" y="5410080"/>
            <a:ext cx="1879560" cy="16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9" descr=""/>
          <p:cNvPicPr/>
          <p:nvPr/>
        </p:nvPicPr>
        <p:blipFill>
          <a:blip r:embed="rId13"/>
          <a:stretch/>
        </p:blipFill>
        <p:spPr>
          <a:xfrm>
            <a:off x="2031840" y="5410080"/>
            <a:ext cx="2768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440" y="0"/>
            <a:ext cx="6176880" cy="5099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6160" y="5181480"/>
            <a:ext cx="7115040" cy="15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 u="sng">
                <a:solidFill>
                  <a:srgbClr val="073763"/>
                </a:solidFill>
                <a:uFillTx/>
                <a:latin typeface="Arial"/>
              </a:rPr>
              <a:t>Geography</a:t>
            </a:r>
            <a:r>
              <a:rPr b="0" lang="en-US" sz="3200" spc="-1" strike="noStrike">
                <a:solidFill>
                  <a:srgbClr val="45818e"/>
                </a:solidFill>
                <a:latin typeface="Arial"/>
              </a:rPr>
              <a:t> of Hindustan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6994440" y="-15840"/>
            <a:ext cx="3065400" cy="2779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4267080" y="6299280"/>
            <a:ext cx="1922760" cy="1177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6400800" y="2844720"/>
            <a:ext cx="36957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laffitte</cp:lastModifiedBy>
  <dcterms:modified xsi:type="dcterms:W3CDTF">2011-04-11T14:42:48Z</dcterms:modified>
  <cp:revision>7</cp:revision>
  <dc:subject/>
  <dc:title>PowerPoint Presentation</dc:title>
</cp:coreProperties>
</file>